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F2B-B289-4935-B323-503D64D0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DA9-0286-408D-BD5E-F4EC9A4D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A02-47C7-4E6A-B4CE-13E8F7B9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A87-0887-4607-8CD0-DFD0292E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9CC-705B-4426-B0F0-2498A08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009-DDA3-40D8-8BB2-5A6C8879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B4A-6634-4C80-AAB2-6284DDF9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BA7-786E-4831-BED5-86350D8F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633-C41E-4A8E-A459-9411B77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2D9-385A-427F-9D37-1413C20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3C9-09C1-4169-A083-D5DE3EB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8BD-F606-4E12-A1B6-32EC75D7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E4BA-50B5-4525-A0B5-23803328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30976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2546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30520" y="5057640"/>
            <a:ext cx="33274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08360" y="304920"/>
            <a:ext cx="2692440" cy="403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7360" y="4800600"/>
            <a:ext cx="273672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714840" y="48769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080" y="609480"/>
            <a:ext cx="3333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3429000" cy="295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79800" y="533520"/>
            <a:ext cx="2479680" cy="367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320" y="4648320"/>
            <a:ext cx="3314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08-12-18T23:16:36Z</dcterms:modified>
  <cp:revision>7</cp:revision>
  <dc:subject/>
  <dc:title>Slide 1</dc:title>
</cp:coreProperties>
</file>